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96BF-07DD-4ACD-B931-B87C3B445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essential ques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dule addresse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nowledge, skills and dispositions must school leaders know and be able to do in order to systemically support enhanced learning f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udents in an inclusive learning co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presentation provides some research background related to leadership that promotes inclusive learning comm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s establish a professional community where teachers are committed to ongoing study, constant practice, and mutual cooperation. Discover Learning communities are the essential foundation of effective schools. In such a context, change efforts can be sustained through better communication and genuine collabo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most promising strategy for sustained substantive school improvement is developing the ability of school personnel to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s professional learning communities.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uFour, R. &amp; Eaker, R. (1998)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fessional Learning Communit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 Work: Best Practices for Enhancing Student Achievement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ria, VA: AS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culture is defined by three facto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itudes and beliefs of people inside and outside of the sch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ltural norms of th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s between people in the scho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and individually they either promote or challenge an effective learning community, including a school’s opportunity to genuinely impr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yd, V. (1992)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school 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chool context: Bridge or barrier to 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Austin, TX: Southwest Educational Development Labora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, as a building-level instructional leader, ensure that all faculty and staff focus their efforts on improving instruction for all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engage the parent community to become engaged in a genuine community of learners? The non-parent community? The disenfranchised parent co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stitutes diversity within a school contex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some indicators that diversity is celebrated from your own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an (2001) argues that the role of principal as instructional leader is too narrow – that they must serve as change agents who transform the teaching and learning culture of the school. This list from Leithwood, written a decade ago, details knowledge and performances necessary for a principal to reculture a school into an inclusive learning 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an (2001) argues that the role of principal as instructional leader is too narrow – that they must serve as change agents who transform the teaching and learning culture of the school. This list from Leithwood, written a decade ago, details knowledge and performances necessary for a principal to reculture a school into an inclusive learning 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the No Child Left Behind Act of 2001, few schools used data to inform their instructional decision-making process. Data, such as the statistic shown here, provides principals with a focal point for discussion with staff about referrals to special education programs, about inclusion, and questions to staff about their response to such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facilitate such a conversa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data align with federal mand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Restrictive Environment (LRE) is broadly interpreted. Many principals have limited experience with special education issues. Describe your experience with LRE, and consider how you would approach it as a building 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4920"/>
            <a:ext cx="8229600" cy="476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ffffff"/>
                </a:solidFill>
                <a:uFillTx/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The National Institute on Leadership, Disability and Students Placed at Ri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t the University of Vermo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2666880" y="4648320"/>
            <a:ext cx="3505320" cy="1739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be0e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438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Reculturing Schools to Foster Inclusive Learning Communities</a:t>
            </a:r>
            <a:endParaRPr b="1" lang="en-US" sz="36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2743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What school leaders need to know and be able to do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efers to staff attitudes and practices reflected in the quality of instruction and degree of access to, and participation of, all students in the school’s social and academic activities.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affects a staff’s receptiveness to professional development as a vehicle for change.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cc"/>
                </a:solidFill>
                <a:latin typeface="Arial"/>
              </a:rPr>
              <a:t>(Tomlinson &amp; Allan, 2000). </a:t>
            </a:r>
            <a:endParaRPr b="0" lang="en-US" sz="16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304920"/>
            <a:ext cx="5486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66"/>
                </a:solidFill>
                <a:latin typeface="Arial"/>
              </a:rPr>
              <a:t>School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Inclusive learning communities</a:t>
            </a: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99"/>
                </a:solidFill>
                <a:latin typeface="Arial"/>
              </a:rPr>
              <a:t>Philosophically and pragmatically inclusive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99"/>
                </a:solidFill>
                <a:latin typeface="Arial"/>
              </a:rPr>
              <a:t>Students, parents, staff and administrators share strong sense of belonging, mutual respect across diverse backgrounds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99"/>
                </a:solidFill>
                <a:latin typeface="Arial"/>
              </a:rPr>
              <a:t>Focus on improving teaching and learning for all members of community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99"/>
                </a:solidFill>
                <a:latin typeface="Arial"/>
              </a:rPr>
              <a:t>Addresses learning needs of its members through proactive partnerships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ff66"/>
                </a:solidFill>
                <a:latin typeface="Arial"/>
              </a:rPr>
              <a:t>Inclusive learning communities (continued)</a:t>
            </a:r>
            <a:endParaRPr b="1" lang="en-US" sz="43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haracterized by a profound respect for and encouragement of diversity, where important differences among children and adults are celebrated rather than seen as problems to remedy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Barth (1990, p. 10) </a:t>
            </a: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ssisting staff to work cooperatively toward common goals;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holding high expectations for performance and professional growth;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rving as role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odels by learning and growing themselves;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viding individualized support for professional learning by, for example, allocating funds, scheduling release time, and giving more moral support;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189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57200"/>
            <a:ext cx="716292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Practices transformational principals</a:t>
            </a:r>
            <a:r>
              <a:rPr b="1" i="1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can apply to promote and support organization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559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uilding a productive school culture that values providing continuous improvement of student services;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viding intellectual stimulation by challenging staff to rethink how their work can be performed;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disseminating information and new ideas;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upporting the committee structure to enhance participation and decision making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- Leithwood, 1994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920"/>
            <a:ext cx="7162920" cy="12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Practices transformational principals</a:t>
            </a:r>
            <a:r>
              <a:rPr b="1" i="1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can apply to promote and support organization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229600" cy="363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y 1999, 47.4% of students with disabilities spent 80% or more of their day in general education classes, compared with 25% of students in 1985.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Arial"/>
              </a:rPr>
              <a:t>- Villa &amp; Thousand, 2003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76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How leadership at each school site chose to look at Least Restrictive Environment (LRE) was critical to how, or even whether, much would be accomplished beyond the </a:t>
            </a: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status quo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Hasazi, Johnston, Liggett &amp; Schattmann, 1994</a:t>
            </a: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533520"/>
            <a:ext cx="53337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Leadership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414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Barth, R. (1990).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Improving schools from within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. San Francisco: Jossey-Bass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414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Hasazi, S., Johnston, A.P., Liggett, A.M. &amp; Schattmann, R.A. (1994). A qualitative policy study of the least restrictive provision of the Individuals with Disabilities Education Act. 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Exceptional children,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60, 491-507.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414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Leithwood, K. (1994). Leadership for school restructuring.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Educational administration quarterly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, 30 (4), 498-518.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414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Tomlinson, C.A. &amp; Allan, S.D. (2000).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Leadership for differentiating schools and classrooms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. Alexandria VA: Association for Supervision and Curriculum Development.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414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Villa, R.A. &amp; Thousand, J.S. October, 2003.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Making inclusive education work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. Alexandria VA: Association for Supervision and Curriculum Development.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3:48:48Z</dcterms:created>
  <dc:creator>UVM</dc:creator>
  <dc:description/>
  <dc:language>en-US</dc:language>
  <cp:lastModifiedBy>UVM</cp:lastModifiedBy>
  <dcterms:modified xsi:type="dcterms:W3CDTF">2004-09-19T11:32:26Z</dcterms:modified>
  <cp:revision>8</cp:revision>
  <dc:subject/>
  <dc:title>Slide 1</dc:title>
</cp:coreProperties>
</file>