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682-FF71-4B58-9360-C2719F3F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908-5B46-4AC0-A45D-E48DDD72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782-B9BC-4CC0-998D-A0AA4A9D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2E9-8DC2-4654-A038-DC3B26E7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5A8B-9075-4ED1-9C13-AAEC854C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C83D-0BD6-4D3F-BDE9-5D9074C5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6789-9711-4650-BC04-73ABC43C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A63B-2BC8-45D6-8BB6-9C45C404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558A-9B51-4E38-BA26-9CBB0A76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0045-E58B-44EB-A0C7-442B0E08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F214-3E3B-4F91-B7DC-4E2F944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70E-64EE-4C17-AE34-720215D0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EC82-7194-49C8-9B97-9673AC0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C681-DEA6-4745-97D9-B41A8021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9CB1-6AB1-4B3E-A076-300BCAF9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E4A6-083C-4735-B7C5-DB93C56D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661A-A070-4A6A-A32E-715EDD14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91E0-C970-42E3-8E7C-8C2A29F2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C5F7-CD23-4D78-82A9-D8BAD02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3F6B-251D-4E20-8B26-AB0D2E6D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623F-46A0-4A57-9195-204E5554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43FE-67AD-4275-9102-DE06DA2B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A99-081B-40DC-942E-94C851DD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3E23-1A50-41DA-A933-748E7FAC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41DA-3AFD-41A9-ACB9-B0477D6B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5B1A-3096-429A-9A5F-3B92386D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BDC6-A23F-466E-92E5-79BF02CC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E948-B38A-495F-B28B-586F55E7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6BD5-1BED-4768-932A-FFB796E8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CC22-FCD4-4D47-9A92-7030CC8B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C8DCF-A768-4D42-9C83-C51D4D1B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02DD5-6B82-48F9-BBF4-6668CBC8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353C-0C83-45A5-9B33-9A9FE362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212-E07E-429C-A198-6C45B0F9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FED5-BEC1-4605-B3A0-A45D6A7D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0642-4DF6-4710-A4FA-94D5D1A3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95D5-1FEF-4357-A237-F48824EB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70A7-F3E7-4A63-9ACE-FD81942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34EB-F061-487D-8C44-C7B31E38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FB76-D9C7-486B-867A-90009CF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09AD-65A2-4431-BD31-D467390D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B73A-862E-4C71-B32B-07EE7846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0E5F-FFE5-4B77-86C0-497C2BB1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70145-3EA8-43C6-9334-F8C5FD5F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DEF-5AC3-4168-B89E-1BF01E22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26C9-2780-479B-895D-505661D7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1B4A-84B4-4B85-9614-6BB7243B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61AD-66D8-4E44-B713-EB214D84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32165-1620-45C4-ABA7-8908E8B6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A64C-7B65-4CBA-A394-DBC9DACD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C539-066B-429C-B5A9-E2273F7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3830-2E48-4954-8119-E2DF8DE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169E-1108-429D-8B45-298BEAA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CEFF-9282-4C3A-A42E-6593787A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F89AB-F92C-49C9-A8B6-CD0B0F22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3C9-63C0-40C5-85C5-C33B1355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183BF-0ECE-4778-A6F7-5ABFC961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B39C9-3757-445C-9824-305DE689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A9F60-B36C-429E-B07C-3CD3C41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469B-179A-40DC-906F-259ECE53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FB982-61B1-41DA-BF5E-C2DF9C79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E3F74-51D3-442F-8BDB-2F31DDBC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629FC-E32F-4DB5-BA4A-9C2BD586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75E1-F3FE-43BC-B615-EF44FF2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7FBFF-8C24-40CB-B4F6-006F0FC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2CD65-DC09-466F-8217-6C33163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63F-BBD4-4C31-AD1C-71B19D5F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F94D3-5341-4706-A6DC-FCDBA680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D9F21-F7A0-49D6-8A82-774ECF11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54B7-EB65-4D38-B914-71E5F2D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515-D0ED-4C95-8225-3252142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E77-964F-4263-AE3C-375401CD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74C-8A33-490F-AF47-D3348DA444A0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1762-51DD-47E7-8289-D5A68778DC4A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81B2-F417-402B-93AA-0AA91CACD32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0E4-A974-412D-B7ED-F40D2E6E51F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5005-D1B1-4BB1-AB97-8B3629227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0EEA-DCF1-49B6-8ADB-0F7FF5FD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9"/>
          </p:nvPr>
        </p:nvSpPr>
        <p:spPr>
          <a:xfrm>
            <a:off x="457200" y="6244920"/>
            <a:ext cx="8229600" cy="476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ffffff"/>
                </a:solidFill>
                <a:uFillTx/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The National Institute on Leadership, Disability and Students Placed at Ri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t the University of Vermo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2666880" y="4648320"/>
            <a:ext cx="3505320" cy="17398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be0e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467480" cy="129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Migration and Education:  Linking Schools with the Needs of Latino Immigrants</a:t>
            </a:r>
            <a:r>
              <a:rPr b="0" lang="en-US" sz="2000" spc="-1" strike="noStrike">
                <a:solidFill>
                  <a:srgbClr val="6a1818"/>
                </a:solidFill>
                <a:latin typeface="Century Gothic"/>
              </a:rPr>
              <a:t> </a:t>
            </a:r>
            <a:br>
              <a:rPr sz="1800"/>
            </a:br>
            <a:br>
              <a:rPr sz="1800"/>
            </a:br>
            <a:endParaRPr b="1" lang="en-US" sz="20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3200400"/>
            <a:ext cx="43434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R. REGINA COR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R. JANET LOP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NIVERSITY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O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N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RTH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AROLINA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HAPEL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H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5257800" cy="39355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600200" y="15228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28600"/>
            <a:ext cx="701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Impact"/>
              </a:rPr>
              <a:t>International research suggests that to educate poor children, it is necessary to assist the fami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5334120" cy="3990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09480" y="152280"/>
            <a:ext cx="662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Impact"/>
              </a:rPr>
              <a:t>It is also necessary to work with the dual or multiple language challenges of the stude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99"/>
                </a:solidFill>
                <a:latin typeface="Impact"/>
              </a:rPr>
              <a:t>In the new global economy, migration is inevitable.  The best response is education.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562360" cy="416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4771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Impact"/>
              </a:rPr>
              <a:t>Hispania – Ancient name for the Iberian Peninsula (Spain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Impact"/>
              </a:rPr>
              <a:t>Hispanidad</a:t>
            </a:r>
            <a:r>
              <a:rPr b="0" lang="en-US" sz="3200" spc="-1" strike="noStrike">
                <a:solidFill>
                  <a:srgbClr val="ffff99"/>
                </a:solidFill>
                <a:latin typeface="Impact"/>
              </a:rPr>
              <a:t> – Spanishness; Spanish Worl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Impact"/>
              </a:rPr>
              <a:t>Latino-</a:t>
            </a:r>
            <a:r>
              <a:rPr b="0" lang="en-US" sz="3200" spc="-1" strike="noStrike">
                <a:solidFill>
                  <a:srgbClr val="ffff99"/>
                </a:solidFill>
                <a:latin typeface="Impact"/>
              </a:rPr>
              <a:t> Latin American 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Impact"/>
              </a:rPr>
              <a:t>Mestizaje</a:t>
            </a:r>
            <a:r>
              <a:rPr b="0" lang="en-US" sz="3200" spc="-1" strike="noStrike">
                <a:solidFill>
                  <a:srgbClr val="ffff99"/>
                </a:solidFill>
                <a:latin typeface="Impact"/>
              </a:rPr>
              <a:t> - racial and cultural mixture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457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Impact"/>
              </a:rPr>
              <a:t>Latinos or Hispan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7467480" cy="45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Diversity of the Latino Population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0866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Impact"/>
                <a:ea typeface="Times New Roman"/>
              </a:rPr>
              <a:t>U.S.-born Latinos, island-born Puerto Ricans, and foreign-born Dominicans, El Salvadorans, and Hondurans – are having significant trouble in graduating and tend to perform at low levels. 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Impact"/>
                <a:ea typeface="Times New Roman"/>
              </a:rPr>
              <a:t>Among Mexican-born students, we find a bifurcation: either they outperform or they drop out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Impact"/>
                <a:ea typeface="Times New Roman"/>
              </a:rPr>
              <a:t>Students originally from South America graduate at far higher rates and exhibit superior levels of achievement and fewer risk factors for school failure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"/>
              </a:rPr>
              <a:t>New Immigrant Students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99"/>
                </a:solidFill>
                <a:latin typeface="Impact"/>
              </a:rPr>
              <a:t>Who are the students and what do they bring with them?</a:t>
            </a:r>
            <a:endParaRPr b="1" lang="en-US" sz="37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Diverse ethnic and cultural background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Language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Culture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Impact"/>
              </a:rPr>
              <a:t>Artistic and musical skill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3000" y="1219320"/>
            <a:ext cx="601992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Impact"/>
                <a:ea typeface="Arial"/>
              </a:rPr>
              <a:t>North Carolina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Impact"/>
                <a:ea typeface="Arial"/>
              </a:rPr>
              <a:t>Recent immigrant children in North Carolina arrive from Mexico, Guatemala, El Salvador,  Honduras, and Guatema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63244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majority of immigrant children are Mexican</a:t>
            </a:r>
            <a:endParaRPr b="1" lang="en-US" sz="4400" spc="-1" strike="noStrike">
              <a:solidFill>
                <a:srgbClr val="99ff66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506600" y="2324160"/>
            <a:ext cx="6049800" cy="364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0" y="-762120"/>
            <a:ext cx="9144000" cy="754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47560" y="838080"/>
            <a:ext cx="5562360" cy="51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Education </a:t>
            </a:r>
            <a:br>
              <a:rPr sz="4000"/>
            </a:b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Economic Growth</a:t>
            </a:r>
            <a:endParaRPr b="1" lang="en-US" sz="4000" spc="-1" strike="noStrike">
              <a:solidFill>
                <a:srgbClr val="99ff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3244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Impact"/>
              </a:rPr>
              <a:t>Under the old economic model—school dropouts have jobs in the manufacturing and agricultural economy.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Impact"/>
              </a:rPr>
              <a:t>Under a new global economy-most develop higher level skills, cultural resources and language diversity to engage world markets.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9:49:59Z</dcterms:created>
  <dc:creator>Janet Lopez</dc:creator>
  <dc:description/>
  <dc:language>en-US</dc:language>
  <cp:lastModifiedBy>uvm affiliate</cp:lastModifiedBy>
  <dcterms:modified xsi:type="dcterms:W3CDTF">2007-09-18T14:59:12Z</dcterms:modified>
  <cp:revision>32</cp:revision>
  <dc:subject/>
  <dc:title>Slide 1</dc:title>
</cp:coreProperties>
</file>